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71675C-6D65-4461-A265-790B4051937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AE3E35-72D8-4B57-A618-9B1FCD711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3AAF7C-8827-4CF0-830F-34BB683FA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E27248-0B86-430C-A2CD-B56CC8A6048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962F50-7E94-42AC-9052-FCA5E92FE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98A495-6E10-4EC3-8FAC-8957F39C0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D65D01-9546-49A1-8F19-77706562E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48DB47-6B82-420B-9D54-270BDB079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4BBDFF-8C3F-47DA-9A66-AFF9976D0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E0828E-8C92-43DF-B12E-9DF187590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12F213-BC6C-4917-9227-F72BFD498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AF2CBA-6D6C-4D0E-B753-FB14236D6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lnSpc>
                <a:spcPct val="9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08640"/>
            <a:ext cx="28958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A3F962A-1A0B-4DCE-8E87-2D5E4E358393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7358040" y="3492360"/>
            <a:ext cx="1792440" cy="179892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82440"/>
            <a:ext cx="7870680" cy="31575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-158760" y="2828880"/>
            <a:ext cx="9461520" cy="22068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rcRect l="0" t="52010" r="0" b="0"/>
          <a:stretch/>
        </p:blipFill>
        <p:spPr>
          <a:xfrm>
            <a:off x="0" y="0"/>
            <a:ext cx="2357280" cy="10000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6715080" y="142920"/>
            <a:ext cx="2428920" cy="7412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6"/>
          <a:stretch/>
        </p:blipFill>
        <p:spPr>
          <a:xfrm>
            <a:off x="6858000" y="2928960"/>
            <a:ext cx="357120" cy="357120"/>
          </a:xfrm>
          <a:prstGeom prst="rect">
            <a:avLst/>
          </a:prstGeom>
          <a:ln w="0">
            <a:noFill/>
          </a:ln>
        </p:spPr>
      </p:pic>
      <p:grpSp>
        <p:nvGrpSpPr>
          <p:cNvPr id="47" name=""/>
          <p:cNvGrpSpPr/>
          <p:nvPr/>
        </p:nvGrpSpPr>
        <p:grpSpPr>
          <a:xfrm>
            <a:off x="3925800" y="4638600"/>
            <a:ext cx="4511880" cy="469800"/>
            <a:chOff x="3925800" y="4638600"/>
            <a:chExt cx="4511880" cy="469800"/>
          </a:xfrm>
        </p:grpSpPr>
        <p:pic>
          <p:nvPicPr>
            <p:cNvPr id="48" name="" descr=""/>
            <p:cNvPicPr/>
            <p:nvPr/>
          </p:nvPicPr>
          <p:blipFill>
            <a:blip r:embed="rId7"/>
            <a:stretch/>
          </p:blipFill>
          <p:spPr>
            <a:xfrm>
              <a:off x="3925800" y="4638600"/>
              <a:ext cx="4511880" cy="46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3929040" y="4643280"/>
              <a:ext cx="450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Calibri"/>
                </a:rPr>
                <a:t>Let’s jump into a new dimension !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0" name="" descr=""/>
          <p:cNvPicPr/>
          <p:nvPr/>
        </p:nvPicPr>
        <p:blipFill>
          <a:blip r:embed="rId8"/>
          <a:stretch/>
        </p:blipFill>
        <p:spPr>
          <a:xfrm>
            <a:off x="-6480" y="3565440"/>
            <a:ext cx="1725840" cy="17258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9"/>
          <a:stretch/>
        </p:blipFill>
        <p:spPr>
          <a:xfrm>
            <a:off x="633240" y="4065480"/>
            <a:ext cx="1659240" cy="18176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10"/>
          <a:stretch/>
        </p:blipFill>
        <p:spPr>
          <a:xfrm>
            <a:off x="1206360" y="4638600"/>
            <a:ext cx="1659240" cy="16527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5572080" y="5572080"/>
            <a:ext cx="3571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Open-source, cross-platform and fre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Software for temporal images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Authors : Pierre Séroul &amp; David Sarru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eroul Pierre</dc:creator>
  <dc:description/>
  <dc:language>en-US</dc:language>
  <cp:lastModifiedBy>Seroul Pierre</cp:lastModifiedBy>
  <cp:revision>0</cp:revision>
  <dc:subject/>
  <dc:title>Diapositive 1</dc:title>
</cp:coreProperties>
</file>